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13027-A2E1-4555-9F97-92030B72D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804C1-1B07-414E-A789-DD67D5544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FF023-4F4D-4F92-9757-0418790DD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C5F98-1627-4A46-8C5B-079681CCB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D02AC-8130-4978-B5D8-BE66CC23C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709A3-51B2-4BC5-AADE-AB440509E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CD8C6-BB8E-4219-94AB-76E866228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4AEE1-7C48-401B-9650-E6DBA83BB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42CCD-CE08-46F9-96DD-6865E600B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BCDCD-B522-4F84-8612-C74AB40D4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F984D-EEE8-4EFD-9B27-8D00956D1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D2577-D08D-44AD-AF2A-BAA7F251B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37CC6-B948-4EF1-9BE8-2C2A380DD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A988E-4AED-415B-8B57-F3F34D4C1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1DE41-D7C0-409A-8CD4-BFC5F07FD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BAA5A-B0F1-442B-8090-CE7B8A54C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7D7E7-B570-4696-A419-CDE3C5DDD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433D6-A53B-4253-9290-BCA961848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6A717-1F00-4A89-A43F-5238E847B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A0711-F92C-4184-9EB1-3FB8230AB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40383-330E-4C4C-B1FE-C445B8AF2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930EC-D5D9-4269-91E9-B257E455C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3AEA5-BE48-4FE9-ABD4-8859928B5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120BA-48CA-4377-82DE-DAB901277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C070-05FB-4AB2-9E1E-34DDEEC53DF2}"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9714-811B-47E1-A12D-5C8AE52425C3}"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tific Language</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2438280" y="1600200"/>
            <a:ext cx="6400800" cy="175248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your off-the-top of your head definitions of the following terms in science:</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t</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br>
              <a:rPr sz="3200"/>
            </a:br>
            <a:r>
              <a:rPr b="0" lang="en-US" sz="3200" spc="-1" strike="noStrike">
                <a:solidFill>
                  <a:srgbClr val="000000"/>
                </a:solidFill>
                <a:latin typeface="Times New Roman"/>
              </a:rPr>
              <a:t>La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tific Language</a:t>
            </a:r>
            <a:endParaRPr b="0" lang="en-US" sz="4400" spc="-1" strike="noStrike">
              <a:solidFill>
                <a:srgbClr val="000000"/>
              </a:solidFill>
              <a:latin typeface="Times New Roman"/>
            </a:endParaRPr>
          </a:p>
        </p:txBody>
      </p:sp>
      <p:sp>
        <p:nvSpPr>
          <p:cNvPr id="85" name="PlaceHolder 2"/>
          <p:cNvSpPr>
            <a:spLocks noGrp="1"/>
          </p:cNvSpPr>
          <p:nvPr>
            <p:ph/>
          </p:nvPr>
        </p:nvSpPr>
        <p:spPr>
          <a:xfrm>
            <a:off x="3504960" y="1599840"/>
            <a:ext cx="5638680" cy="44197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89000"/>
          </a:bodyPr>
          <a:p>
            <a:pPr marL="305280" indent="-3052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ce, in many ways, has its own language.</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words are spelled the same way as ones you already know, and sound the same, but they mean something very different.</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 for today: Understand the </a:t>
            </a:r>
            <a:r>
              <a:rPr b="0" i="1" lang="en-US" sz="2800" spc="-1" strike="noStrike">
                <a:solidFill>
                  <a:srgbClr val="000000"/>
                </a:solidFill>
                <a:latin typeface="Times New Roman"/>
              </a:rPr>
              <a:t>scientific</a:t>
            </a:r>
            <a:r>
              <a:rPr b="0" lang="en-US" sz="2800" spc="-1" strike="noStrike">
                <a:solidFill>
                  <a:srgbClr val="000000"/>
                </a:solidFill>
                <a:latin typeface="Times New Roman"/>
              </a:rPr>
              <a:t> meanings of observation, fact, theory, and law.  Be able to make a scientific observation, prediction and hypo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s &amp; Observations</a:t>
            </a:r>
            <a:endParaRPr b="0" lang="en-US" sz="4400" spc="-1" strike="noStrike">
              <a:solidFill>
                <a:srgbClr val="000000"/>
              </a:solidFill>
              <a:latin typeface="Times New Roman"/>
            </a:endParaRPr>
          </a:p>
        </p:txBody>
      </p:sp>
      <p:sp>
        <p:nvSpPr>
          <p:cNvPr id="87" name="PlaceHolder 2"/>
          <p:cNvSpPr>
            <a:spLocks noGrp="1"/>
          </p:cNvSpPr>
          <p:nvPr>
            <p:ph/>
          </p:nvPr>
        </p:nvSpPr>
        <p:spPr>
          <a:xfrm>
            <a:off x="2209680" y="1599840"/>
            <a:ext cx="6934320" cy="5257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 OBSERVATION:  A data point that is a description of something you sens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are observ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izard has two black strip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emical solution we made smells like rotten egg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son why the shark attacked the human was because it thought he was a sea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rystals in the sample are small, white, and cubic.</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rystals in the sample are sa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s &amp; Observations</a:t>
            </a:r>
            <a:endParaRPr b="0" lang="en-US" sz="4400" spc="-1" strike="noStrike">
              <a:solidFill>
                <a:srgbClr val="000000"/>
              </a:solidFill>
              <a:latin typeface="Times New Roman"/>
            </a:endParaRPr>
          </a:p>
        </p:txBody>
      </p:sp>
      <p:sp>
        <p:nvSpPr>
          <p:cNvPr id="89" name="PlaceHolder 2"/>
          <p:cNvSpPr>
            <a:spLocks noGrp="1"/>
          </p:cNvSpPr>
          <p:nvPr>
            <p:ph/>
          </p:nvPr>
        </p:nvSpPr>
        <p:spPr>
          <a:xfrm>
            <a:off x="2590560" y="1295280"/>
            <a:ext cx="6553080" cy="55627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 FACT:  An observation that has been made repeatedly.</a:t>
            </a:r>
            <a:r>
              <a:rPr b="0" lang="en-US" sz="2800" spc="-1" strike="noStrike">
                <a:solidFill>
                  <a:srgbClr val="000000"/>
                </a:solidFill>
                <a:latin typeface="Times New Roman"/>
              </a:rPr>
              <a:t>  “Fact” does not mean “truth” or “proven” in sci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se are fac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ky is blu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shorter wavelengths of light are absorbed and scattered by air molecules while longer wavelengths of light (like red light) pass straight through, it is the shorter wavelengths of light that reach human eyes, which makes the atmosphere appear blu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anations</a:t>
            </a:r>
            <a:endParaRPr b="0" lang="en-US" sz="4400" spc="-1" strike="noStrike">
              <a:solidFill>
                <a:srgbClr val="000000"/>
              </a:solidFill>
              <a:latin typeface="Times New Roman"/>
            </a:endParaRPr>
          </a:p>
        </p:txBody>
      </p:sp>
      <p:sp>
        <p:nvSpPr>
          <p:cNvPr id="91" name="PlaceHolder 2"/>
          <p:cNvSpPr>
            <a:spLocks noGrp="1"/>
          </p:cNvSpPr>
          <p:nvPr>
            <p:ph/>
          </p:nvPr>
        </p:nvSpPr>
        <p:spPr>
          <a:xfrm>
            <a:off x="3200400" y="1142640"/>
            <a:ext cx="5943600" cy="5715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cience REALLY wants are </a:t>
            </a:r>
            <a:r>
              <a:rPr b="0" i="1" lang="en-US" sz="2800" spc="-1" strike="noStrike">
                <a:solidFill>
                  <a:srgbClr val="000000"/>
                </a:solidFill>
                <a:latin typeface="Times New Roman"/>
              </a:rPr>
              <a:t>explanations</a:t>
            </a:r>
            <a:r>
              <a:rPr b="0" lang="en-US" sz="2800" spc="-1" strike="noStrike">
                <a:solidFill>
                  <a:srgbClr val="000000"/>
                </a:solidFill>
                <a:latin typeface="Times New Roman"/>
              </a:rPr>
              <a:t> of observations and fa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most important scientific explanations: theories and law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imilarities and differences do you notice?  Sticker challeng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t has an equation, write that.  Otherwise, write a one-sentence defin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09680" y="228240"/>
            <a:ext cx="6934320" cy="62485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Theory: All matter is made of atom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ry of Evolution: Groups of organisms change over tim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 Theory: Living things are made of cell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 Gas Law: PV=nR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rm Theory of Disease: Communicable diseases are caused by germ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ton’s Second Law of Thermodynamics: F=m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y-Weinberg’s Law: p + q = 1, (p + q)</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p</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pq + q</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te Tectonics Theory: Plates moving in relation to each other cause earthquakes, volcanoes, continental drift, mountains, and ocean trench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m’s Law: I = V/R</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ton’s Law of Gravitation: F = G((m</a:t>
            </a:r>
            <a:r>
              <a:rPr b="0" lang="en-US" sz="2400" spc="-1" strike="noStrike" baseline="-25000">
                <a:solidFill>
                  <a:srgbClr val="000000"/>
                </a:solidFill>
                <a:latin typeface="Times New Roman"/>
              </a:rPr>
              <a:t>1</a:t>
            </a:r>
            <a:r>
              <a:rPr b="0" lang="en-US" sz="2400" spc="-1" strike="noStrike">
                <a:solidFill>
                  <a:srgbClr val="000000"/>
                </a:solidFill>
                <a:latin typeface="Times New Roman"/>
              </a:rPr>
              <a:t>m</a:t>
            </a:r>
            <a:r>
              <a:rPr b="0" lang="en-US" sz="2400" spc="-1" strike="noStrike" baseline="-25000">
                <a:solidFill>
                  <a:srgbClr val="000000"/>
                </a:solidFill>
                <a:latin typeface="Times New Roman"/>
              </a:rPr>
              <a:t>2</a:t>
            </a:r>
            <a:r>
              <a:rPr b="0" lang="en-US" sz="2400" spc="-1" strike="noStrike">
                <a:solidFill>
                  <a:srgbClr val="000000"/>
                </a:solidFill>
                <a:latin typeface="Times New Roman"/>
              </a:rPr>
              <a:t>)/r</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tum Theory of Gravitation: Gravitation is caused by gravitons, 2-spin elementary partic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lanations</a:t>
            </a:r>
            <a:endParaRPr b="0" lang="en-US" sz="4400" spc="-1" strike="noStrike">
              <a:solidFill>
                <a:srgbClr val="000000"/>
              </a:solidFill>
              <a:latin typeface="Times New Roman"/>
            </a:endParaRPr>
          </a:p>
        </p:txBody>
      </p:sp>
      <p:sp>
        <p:nvSpPr>
          <p:cNvPr id="94" name="PlaceHolder 2"/>
          <p:cNvSpPr>
            <a:spLocks noGrp="1"/>
          </p:cNvSpPr>
          <p:nvPr>
            <p:ph/>
          </p:nvPr>
        </p:nvSpPr>
        <p:spPr>
          <a:xfrm>
            <a:off x="3276720" y="1980720"/>
            <a:ext cx="586728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AW: Describes patterns in relationships between observable quantitie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ORY: Explains how or why something in nature happens the way it do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ories never become laws, laws never become theories. Example: grav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ilarities and Differences</a:t>
            </a:r>
            <a:endParaRPr b="0" lang="en-US" sz="4400" spc="-1" strike="noStrike">
              <a:solidFill>
                <a:srgbClr val="000000"/>
              </a:solidFill>
              <a:latin typeface="Times New Roman"/>
            </a:endParaRPr>
          </a:p>
        </p:txBody>
      </p:sp>
      <p:sp>
        <p:nvSpPr>
          <p:cNvPr id="96" name="PlaceHolder 2"/>
          <p:cNvSpPr>
            <a:spLocks noGrp="1"/>
          </p:cNvSpPr>
          <p:nvPr>
            <p:ph/>
          </p:nvPr>
        </p:nvSpPr>
        <p:spPr>
          <a:xfrm>
            <a:off x="3124080" y="1981080"/>
            <a:ext cx="601992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1000"/>
          </a:bodyPr>
          <a:p>
            <a:pPr marL="312120" indent="-3121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AWS DESCRIBE. THEORIES EXPLAIN.</a:t>
            </a:r>
            <a:endParaRPr b="0" lang="en-US" sz="2800" spc="-1" strike="noStrike">
              <a:solidFill>
                <a:srgbClr val="000000"/>
              </a:solidFill>
              <a:latin typeface="Times New Roman"/>
            </a:endParaRPr>
          </a:p>
          <a:p>
            <a:pPr lvl="1" marL="676080" indent="-259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Laws and theories are equally proven, equally powerful, and never turn into each other.</a:t>
            </a:r>
            <a:endParaRPr b="0" lang="en-US" sz="2400" spc="-1" strike="noStrike">
              <a:solidFill>
                <a:srgbClr val="000000"/>
              </a:solidFill>
              <a:latin typeface="Times New Roman"/>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s are observations.  Laws describe facts.  Theories explain facts and law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ries and laws require the same volume of evidence.  Neither of them is ever random or a guess.  They are the pinnacle of scientific achievement, scientists DREAM of constructing o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21:50:47Z</dcterms:created>
  <dc:creator>Rebecca Stang</dc:creator>
  <dc:description/>
  <dc:language>en-US</dc:language>
  <cp:lastModifiedBy>Rebecca Stang</cp:lastModifiedBy>
  <dcterms:modified xsi:type="dcterms:W3CDTF">2008-10-05T14:03:13Z</dcterms:modified>
  <cp:revision>15</cp:revision>
  <dc:subject/>
  <dc:title>Scientific Language</dc:title>
</cp:coreProperties>
</file>